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46C3-4E0D-4DBF-B877-F64573B097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ур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1 Задания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№1 Задания для повто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же, мы всё же произош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 кого же, мы всё же произош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антропоген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пы антропогене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корана и биб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унок корана и библ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келеты людей раско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келеты людей раскоп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авизмы руд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тавизмы рудиме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0C3-0940-45F4-A0EB-AC2D6F7D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977-9021-4C4B-9C3E-FC5903F0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11A-855E-4647-A647-4FD2720E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774-B1BD-4498-A2B4-3613B6DC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783-30C9-4E47-B625-F334CDFA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D7A-1D83-4295-8D81-D33A5CE2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711-F6F6-4951-A1DC-8CC86801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0EB-E43E-4F28-8B78-2B6D7EB3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3CA-9FE7-47DA-B355-04EA1FD1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FCE-A804-46A5-94CE-B9BC2013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452-D0A4-4CDA-A613-5D7E2885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27D-BF13-4054-8353-2A0AD4E9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FF7B-C8E8-4B9C-A1CC-EB20566B24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Урок-дискуссия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тема: Теории и гипотезы происхождения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bright="18000"/>
          </a:blip>
          <a:srcRect l="0" t="19092" r="4147" b="4576"/>
          <a:stretch/>
        </p:blipFill>
        <p:spPr>
          <a:xfrm>
            <a:off x="762120" y="1676520"/>
            <a:ext cx="7848360" cy="4924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147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757600" cy="19954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715000" y="1752480"/>
            <a:ext cx="3200400" cy="23608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1587600"/>
            <a:ext cx="8458200" cy="49575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97200" y="1857240"/>
            <a:ext cx="2057400" cy="31356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 rot="20671200">
            <a:off x="1326960" y="2147400"/>
            <a:ext cx="2251080" cy="3505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2" name="Picture 6" descr="12"/>
          <p:cNvPicPr/>
          <p:nvPr/>
        </p:nvPicPr>
        <p:blipFill>
          <a:blip r:embed="rId3"/>
          <a:stretch/>
        </p:blipFill>
        <p:spPr>
          <a:xfrm rot="1188600">
            <a:off x="5714640" y="2286000"/>
            <a:ext cx="2065320" cy="32004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 rot="21174600">
            <a:off x="1294920" y="2209680"/>
            <a:ext cx="63248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лайд №1 Задания для повторен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V="1">
            <a:off x="16002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1680" y="1219320"/>
          <a:ext cx="8537400" cy="4468680"/>
        </p:xfrm>
        <a:graphic>
          <a:graphicData uri="http://schemas.openxmlformats.org/drawingml/2006/table">
            <a:tbl>
              <a:tblPr/>
              <a:tblGrid>
                <a:gridCol w="4268880"/>
                <a:gridCol w="426852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пределения терми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т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дим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т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авиз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тично зарисуйте строение живот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основные понятия клеточной тео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360600" cy="4267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55" name="Picture 6" descr="5"/>
          <p:cNvPicPr/>
          <p:nvPr/>
        </p:nvPicPr>
        <p:blipFill>
          <a:blip r:embed="rId2"/>
          <a:stretch/>
        </p:blipFill>
        <p:spPr>
          <a:xfrm>
            <a:off x="3809880" y="2743200"/>
            <a:ext cx="4724640" cy="35272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724280" y="1143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кого же, мы всё же произош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617640" cy="41148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Этапы антропогене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16756" r="0" b="4494"/>
          <a:stretch/>
        </p:blipFill>
        <p:spPr>
          <a:xfrm>
            <a:off x="228600" y="1905120"/>
            <a:ext cx="8686800" cy="4343400"/>
          </a:xfrm>
          <a:prstGeom prst="rect">
            <a:avLst/>
          </a:prstGeom>
          <a:ln w="57240">
            <a:solidFill>
              <a:srgbClr val="ee941c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исунок корана и биб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0746200">
            <a:off x="1295280" y="1676520"/>
            <a:ext cx="3143520" cy="4324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i"/>
          <p:cNvPicPr/>
          <p:nvPr/>
        </p:nvPicPr>
        <p:blipFill>
          <a:blip r:embed="rId2"/>
          <a:stretch/>
        </p:blipFill>
        <p:spPr>
          <a:xfrm>
            <a:off x="5715000" y="1600200"/>
            <a:ext cx="283356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2819520" y="1676520"/>
            <a:ext cx="3174840" cy="4190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келеты людей раскоп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496040" cy="44960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тавизмы рудимен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14299" t="0" r="10394" b="0"/>
          <a:stretch/>
        </p:blipFill>
        <p:spPr>
          <a:xfrm>
            <a:off x="457200" y="1295280"/>
            <a:ext cx="3276720" cy="3262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5562720" cy="25909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0:4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